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343F-CAB7-43FE-A609-61038D49C4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B3D0-FF4F-4401-A59A-20D052CB792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E7A7-5BE8-4FAD-A1EE-F8A7B2313D2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1536-6714-40BE-92DF-106610A7690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2988-F2B6-4572-9487-7DDE1B9B139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898560"/>
                <a:tab algn="l" pos="1798560"/>
                <a:tab algn="l" pos="2698920"/>
                <a:tab algn="l" pos="3597120"/>
                <a:tab algn="l" pos="4497480"/>
                <a:tab algn="l" pos="5397480"/>
                <a:tab algn="l" pos="6297480"/>
                <a:tab algn="l" pos="7196040"/>
                <a:tab algn="l" pos="8096400"/>
                <a:tab algn="l" pos="8996400"/>
                <a:tab algn="l" pos="9894960"/>
                <a:tab algn="l" pos="10058400"/>
              </a:tabLst>
            </a:pPr>
            <a:fld id="{1B7E75B2-3859-4030-9302-A9EE75D52C0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3FB0-74F3-4417-93BF-60923804B15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C9EC-A06B-46F5-9F83-B08ED457FAE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6403-1EE4-409F-8335-0C5534CB0C0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2676-4E6B-44CC-B59F-66C79E6F9FB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64B9-83B0-4AC4-AC76-CD427CEF024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4E52-7749-4AF2-A1DB-84A6E6A138A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1945-8241-4B47-9587-E322A2BF71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791D-A06F-48BC-985B-69E88C4BDA7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D26-B19D-427E-B8C6-16A73BCD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CD63-38BB-44FF-9B22-99448EC8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85E-A79F-4E99-859E-2C95A209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1248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9332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1248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9332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DD2-FA45-492E-B062-E01A5D35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EF26-2760-4B2B-ABDD-900F4D3A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F187-21E4-4B72-A33D-2DAC33C3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FDF1-070D-4F56-8064-A3519D23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AD39-0691-473D-BFB1-01BB7C13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DA96-FB97-4348-AE87-21F886D2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763640" y="27432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25AD-8C9C-4D3C-92CF-88E0F71B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A4E8-3AD0-4F61-8B63-6658ED27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6CF8-91A3-474F-A5FB-F55B168B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AE8A-CA48-4F96-BE67-BB3623FD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D99D-097F-4060-B700-19A3EEC1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576E-BEF7-49D3-A8E4-575F9567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FC7D-5E09-4740-8A28-3A4B258D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1248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9332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1248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9332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1379-4697-4F0A-95EE-781301EA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721-B70B-4348-AC7E-991352E9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E1D-4C17-4DF8-A875-E2F07112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73A1-3207-4E9C-8014-0B2A771D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63640" y="27432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B34-88A3-46CD-84F1-8BBDA88B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D7BA-5232-4CB2-A791-E6A1EB36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016-A8D5-4AC6-974C-315302D6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BAD-871E-4EA9-9329-C23D7849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65_5187"/>
          <p:cNvPicPr/>
          <p:nvPr/>
        </p:nvPicPr>
        <p:blipFill>
          <a:blip r:embed="rId2"/>
          <a:srcRect l="35434" t="0" r="40158" b="0"/>
          <a:stretch/>
        </p:blipFill>
        <p:spPr>
          <a:xfrm>
            <a:off x="-36360" y="0"/>
            <a:ext cx="1487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547280" y="6237000"/>
            <a:ext cx="242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140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380000" y="6244920"/>
            <a:ext cx="130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20A4-C139-4913-9134-C012AEDE4FCA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Freeform 11"/>
          <p:cNvSpPr/>
          <p:nvPr/>
        </p:nvSpPr>
        <p:spPr>
          <a:xfrm>
            <a:off x="971640" y="-230040"/>
            <a:ext cx="1008000" cy="7316640"/>
          </a:xfrm>
          <a:custGeom>
            <a:avLst/>
            <a:gdLst/>
            <a:ahLst/>
            <a:rect l="l" t="t" r="r" b="b"/>
            <a:pathLst>
              <a:path w="635" h="4672">
                <a:moveTo>
                  <a:pt x="317" y="159"/>
                </a:moveTo>
                <a:cubicBezTo>
                  <a:pt x="211" y="318"/>
                  <a:pt x="0" y="1928"/>
                  <a:pt x="0" y="2654"/>
                </a:cubicBezTo>
                <a:cubicBezTo>
                  <a:pt x="0" y="3380"/>
                  <a:pt x="211" y="4672"/>
                  <a:pt x="317" y="4513"/>
                </a:cubicBezTo>
                <a:cubicBezTo>
                  <a:pt x="423" y="4354"/>
                  <a:pt x="635" y="2427"/>
                  <a:pt x="635" y="1701"/>
                </a:cubicBezTo>
                <a:cubicBezTo>
                  <a:pt x="635" y="975"/>
                  <a:pt x="423" y="0"/>
                  <a:pt x="317" y="15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9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2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547280" y="6237000"/>
            <a:ext cx="242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140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380000" y="6244920"/>
            <a:ext cx="130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6FD4-194D-4350-A962-542BF28640C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ge.edu.ru/ru/main/schedule/" TargetMode="External"/><Relationship Id="rId2" Type="http://schemas.openxmlformats.org/officeDocument/2006/relationships/hyperlink" Target="http://www.ege.edu.ru/ru/main/legal-documents/index.php?id_4=17886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ge.edu.ru/ru/main/legal-documents/index.php?id_4=17886" TargetMode="External"/><Relationship Id="rId2" Type="http://schemas.openxmlformats.org/officeDocument/2006/relationships/hyperlink" Target="http://www.ege.edu.ru/ru/main/brief-glossary/" TargetMode="External"/><Relationship Id="rId3" Type="http://schemas.openxmlformats.org/officeDocument/2006/relationships/hyperlink" Target="http://www.ege.edu.ru/ru/main/blanks/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ge.edu.ru/ru/main/legal-documents/index.php?id_4=17958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ge.edu.ru/ru/main/schedule/" TargetMode="External"/><Relationship Id="rId2" Type="http://schemas.openxmlformats.org/officeDocument/2006/relationships/hyperlink" Target="http://www.ege.edu.ru/ru/main/legal-documents/index.php?id_4=17886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15494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Готовимся вместе к ГИА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95280" y="3642840"/>
            <a:ext cx="6400800" cy="17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Родительское собрание в 9 класс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202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http://idist.ru/Documets/Uchotdel/9_klass.jpg"/>
          <p:cNvPicPr/>
          <p:nvPr/>
        </p:nvPicPr>
        <p:blipFill>
          <a:blip r:embed="rId1"/>
          <a:stretch/>
        </p:blipFill>
        <p:spPr>
          <a:xfrm>
            <a:off x="6405480" y="4292640"/>
            <a:ext cx="2594160" cy="24289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84000" y="466560"/>
            <a:ext cx="5745240" cy="96012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9360" rIns="99360" tIns="56160" bIns="56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240ae4"/>
              </a:solidFill>
              <a:latin typeface="Calibri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476360" y="81000"/>
            <a:ext cx="735480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о допуске к государственной итоговой аттестации принимается педагогическим советом образовательной организации и оформляется распорядительным актом образовательной организации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озднее 15 ма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кущего год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4B2C-72A9-4728-89F9-588C244F90C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8137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ОСОБЕННОСТИ ОГЭ-2025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Единое для всех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расписание ОГЭ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и продолжительность экзаменов по предмету в 2025  году устанавливает соответствующий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приказ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Министерства просвещения Российской Федерации, Федеральной службы о надзору в сфере образования и нау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ОСОБЕННОСТИ ГИА-2024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Единое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распис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Использование заданий стандартизированной формы (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КИМ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Использование специальных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бланков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 для оформления ответов на зад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ОСОБЕННОСТИ ГИА-2025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47" name="Содержимое 3"/>
          <p:cNvSpPr/>
          <p:nvPr/>
        </p:nvSpPr>
        <p:spPr>
          <a:xfrm>
            <a:off x="1547640" y="1413000"/>
            <a:ext cx="7139160" cy="47131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06000" indent="-306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ительности экзаменов утверждается Федеральной службой по надзору в сфере образования и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полнительные сроки для сдачи экзамена участниками ОГЭ, пропустившими экзамен в основные сроки по уважительным причинам или подавшими апелляцию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 …..сентября 2025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замены начинаются по местному времени в 10.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подготовительные мероприятия (проведение инструктажа, заполнение области регистрации бланков ОГЭ и др.) выделяется время до 10-15 минут, которое не включается в продолжительность выполнения экзаменацион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Итоговое собеседование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87280" y="980640"/>
            <a:ext cx="749952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евраля 2025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ся итоговое собеседование по учебному предмету «русский язык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 собеседовани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будут влиять на допус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щихся к ГИА-9 в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2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ой срок:   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олнительные сроки: 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2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8959-0FE9-4F5A-B0FF-25480221775C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23160" cy="93636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тоговое собеседование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42560" y="1125000"/>
            <a:ext cx="7931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ое собеседование по русскому языку  направлено на проверку навыков спонтанной речи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дготовку участнику будет даваться 1-2 мину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собеседования включает следующие типы заданий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чтение текста вслух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ересказ текста с привлечением дополнительной информации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монологическое высказывание по одной из выбранных тем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диалог с экзаменатором-собеседником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тексты для чтения, которые будут предложены участникам собеседования, - это тексты о выдающихся людях Ро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4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CB7C-A358-4824-8CEE-8053EC978630}" type="slidenum">
              <a:rPr b="0" lang="ru-RU" sz="1400" spc="-1" strike="noStrike">
                <a:solidFill>
                  <a:srgbClr val="bbe0e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50160" cy="8366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тоговое собеседование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258560" y="836640"/>
            <a:ext cx="7885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ыполнение работы каждому участнику будет отводиться около 15 минут. В процессе проведения собеседования будет вестись аудиозапись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выполнения заданий работы будет осуществляться экспертом непосредственно в процессе ответа по специально разработанным критериям с учетом соблюдения норм современного русского литературного язы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ое собеседование выпускники 9 классов проходя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их школа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ся оно будет по систем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зачет»/«незачет»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4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D8B4-4CB0-48C8-A61B-E3F5A536ABE2}" type="slidenum">
              <a:rPr b="0" lang="ru-RU" sz="1400" spc="-1" strike="noStrike">
                <a:solidFill>
                  <a:srgbClr val="bbe0e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ижний колонтитул 3"/>
          <p:cNvSpPr/>
          <p:nvPr/>
        </p:nvSpPr>
        <p:spPr>
          <a:xfrm>
            <a:off x="4140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4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A46B-F861-4FEF-ABF3-52642F6D76DF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ижний колонтитул 3"/>
          <p:cNvSpPr/>
          <p:nvPr/>
        </p:nvSpPr>
        <p:spPr>
          <a:xfrm>
            <a:off x="4140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4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70A4-49A3-4E77-B473-116B40ABBD02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ижний колонтитул 3"/>
          <p:cNvSpPr/>
          <p:nvPr/>
        </p:nvSpPr>
        <p:spPr>
          <a:xfrm>
            <a:off x="4140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4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FAE8-BF21-4AE5-9BF0-3ABB89A476B8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1"/>
          <p:cNvSpPr/>
          <p:nvPr/>
        </p:nvSpPr>
        <p:spPr>
          <a:xfrm>
            <a:off x="4140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2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DAC5-559A-44D0-9B1D-F8B68B87FED0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85.sochi-schools.ru/wp-content/uploads/2016/03/G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1187280" y="62064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Проведение государственной итоговой аттест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выпускников 9 класса в 2025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1" descr=""/>
          <p:cNvPicPr/>
          <p:nvPr/>
        </p:nvPicPr>
        <p:blipFill>
          <a:blip r:embed="rId1"/>
          <a:srcRect l="20863" t="10801" r="10625" b="3800"/>
          <a:stretch/>
        </p:blipFill>
        <p:spPr>
          <a:xfrm>
            <a:off x="0" y="260280"/>
            <a:ext cx="8997840" cy="631044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ая соединительная линия 3"/>
          <p:cNvSpPr/>
          <p:nvPr/>
        </p:nvSpPr>
        <p:spPr>
          <a:xfrm>
            <a:off x="179280" y="4076640"/>
            <a:ext cx="115272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5"/>
          <p:cNvSpPr/>
          <p:nvPr/>
        </p:nvSpPr>
        <p:spPr>
          <a:xfrm>
            <a:off x="179280" y="4076640"/>
            <a:ext cx="115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785016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МИНИМАЛЬНОЕ КОЛИЧЕСТВО БАЛЛОВ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Распоряжением Рособрнадзора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устанавливается минимальное количество баллов по всем предметам ОГЭ-2024, подтверждающее освоение участниками экзаменов основных общеобразовательных программ основного  общего образования в соответствии с требованиями федерального государственного образовательного стандарта основного  общего образ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НЕУДОВЛЕТВОРИТЕЛЬНЫЙ РЕЗУЛЬТАТ</a:t>
            </a:r>
            <a:endParaRPr b="1" lang="en-US" sz="36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Если выпускник текущего года получает результат ниже минимального количества баллов по двум  предметам, то он может пересдать эти экзамены в этом же году. Сделать это можно в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резервные дни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 в текущем году, которые устанавливаются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приказом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 Министерства просвещения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НЕУДОВЛЕТВОРИТЕЛЬНЫЙ РЕЗУЛЬТАТ</a:t>
            </a:r>
            <a:endParaRPr b="1" lang="en-US" sz="36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Если выпускник текущего года получает результаты, ниже минимального количества баллов по трём предметам, он сможет пересдать ОГЭ в  сентябр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Если он не пересдал в сентября, то он остаётся на повторный год обучения или переходит на семейную форму обучения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6286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Особенности проведения экзаменов ГИА-9 по отдельным учебным предметам</a:t>
            </a:r>
            <a:br>
              <a:rPr sz="4000"/>
            </a:br>
            <a:endParaRPr b="1" lang="en-US" sz="25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87280" y="1268280"/>
          <a:ext cx="7956720" cy="5286600"/>
        </p:xfrm>
        <a:graphic>
          <a:graphicData uri="http://schemas.openxmlformats.org/drawingml/2006/table">
            <a:tbl>
              <a:tblPr/>
              <a:tblGrid>
                <a:gridCol w="1971720"/>
                <a:gridCol w="1471680"/>
                <a:gridCol w="4513320"/>
              </a:tblGrid>
              <a:tr h="1033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Разрешенные дополнитель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материалы и обору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6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235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3 часа 55 мину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Орфографические словар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Аппаратура, которая может обеспечить качественное воспроизведение аудиозаписей с компакт-диска (формат аудиозаписи –</a:t>
                      </a:r>
                      <a:r>
                        <a:rPr b="0" lang="en-US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r>
                        <a:rPr b="0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3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6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235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3 часа 55 мину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каждого участника экзамен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Справочные материалы, содержащие таблицу квадратов двузначных чисел, основные формулы по алгебре и геометр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Разрешается на экзамене использовать </a:t>
                      </a: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линейку</a:t>
                      </a:r>
                      <a:r>
                        <a:rPr b="0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, непрограммируемый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алькуля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713800" cy="115236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Особенности проведения экзаменов ГИА-9 </a:t>
            </a:r>
            <a:br>
              <a:rPr sz="2500"/>
            </a:b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 отдельным учебным предметам</a:t>
            </a:r>
            <a:br>
              <a:rPr sz="4000"/>
            </a:br>
            <a:endParaRPr b="1" lang="en-US" sz="25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16000" y="1628640"/>
          <a:ext cx="7632720" cy="4434120"/>
        </p:xfrm>
        <a:graphic>
          <a:graphicData uri="http://schemas.openxmlformats.org/drawingml/2006/table">
            <a:tbl>
              <a:tblPr/>
              <a:tblGrid>
                <a:gridCol w="2744640"/>
                <a:gridCol w="1741680"/>
                <a:gridCol w="3146400"/>
              </a:tblGrid>
              <a:tr h="1220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Разрешенные дополнитель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материалы и обору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80 мин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3 час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е используют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8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80 мин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3 час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е используют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49636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Особенности проведения экзаменов ГИА-9 </a:t>
            </a:r>
            <a:br>
              <a:rPr sz="2500"/>
            </a:b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 отдельным учебным предметам</a:t>
            </a:r>
            <a:br>
              <a:rPr sz="4000"/>
            </a:br>
            <a:endParaRPr b="1" lang="en-US" sz="25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16000" y="1332000"/>
          <a:ext cx="7848720" cy="4964040"/>
        </p:xfrm>
        <a:graphic>
          <a:graphicData uri="http://schemas.openxmlformats.org/drawingml/2006/table">
            <a:tbl>
              <a:tblPr/>
              <a:tblGrid>
                <a:gridCol w="1635120"/>
                <a:gridCol w="1765440"/>
                <a:gridCol w="4448160"/>
              </a:tblGrid>
              <a:tr h="973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Разрешенные дополнитель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материалы и обору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3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235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3 часа 55 мину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Книги с текстами художественных произведений </a:t>
                      </a: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и сборники лирики, в которых не должно быть вступительных статей и комментарие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ользование личными текстами художественных произведений и сборниками лирики участникам ОГЭ запреще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7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8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3 час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Инструкция по правилам безопас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каждого участника экзамен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епрограммируемый калькулят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96360" cy="9986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Особенности проведения экзаменов ГИА-9</a:t>
            </a:r>
            <a:br>
              <a:rPr sz="2500"/>
            </a:b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 по отдельным учебным предметам</a:t>
            </a:r>
            <a:br>
              <a:rPr sz="4000"/>
            </a:br>
            <a:endParaRPr b="1" lang="en-US" sz="25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187280" y="1125360"/>
          <a:ext cx="7956720" cy="5696280"/>
        </p:xfrm>
        <a:graphic>
          <a:graphicData uri="http://schemas.openxmlformats.org/drawingml/2006/table">
            <a:tbl>
              <a:tblPr/>
              <a:tblGrid>
                <a:gridCol w="1524240"/>
                <a:gridCol w="1724040"/>
                <a:gridCol w="4708440"/>
              </a:tblGrid>
              <a:tr h="11304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Разрешенные дополнитель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материалы и обору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29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20 мин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2 час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Инструкция по правилам безопасности (для каждой аудитории).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каждого участника экзамен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«Периодическая система химических элементов Д.И. Менделеева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Таблица растворимости солей, кислот и оснований в вод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Электрохимический ряд напряжений металлов (ИК участника ОГЭ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Непрограммируемый калькулято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80 мин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3 час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каждого участника экзамен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линейк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карандаш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непрограммируемый калькулято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13520" cy="121428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Особенности проведения экзаменов ГИА-9 </a:t>
            </a:r>
            <a:br>
              <a:rPr sz="2500"/>
            </a:b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 отдельным учебным предметам</a:t>
            </a:r>
            <a:br>
              <a:rPr sz="4000"/>
            </a:br>
            <a:endParaRPr b="1" lang="en-US" sz="25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71640" y="1197000"/>
          <a:ext cx="8165880" cy="5578560"/>
        </p:xfrm>
        <a:graphic>
          <a:graphicData uri="http://schemas.openxmlformats.org/drawingml/2006/table">
            <a:tbl>
              <a:tblPr/>
              <a:tblGrid>
                <a:gridCol w="2109600"/>
                <a:gridCol w="1633680"/>
                <a:gridCol w="4422600"/>
              </a:tblGrid>
              <a:tr h="915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Разрешенные дополнитель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материалы и обору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20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2 ча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каждого участника экзамен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географические атласы для 7, 8 и 9 класс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непрограммируемый калькулятор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линей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2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50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2 часа 30 мину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Инструкция по правилам безопасности (для каждой аудитории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1 резервный компьюте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каждого участника экзамен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Компьюте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Для выполнения задания 19 необходима программа для работы с электронными таблиц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а  компьютере должны быть установлены знакомые участникам экзамена програм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9986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Особенности проведения экзаменов ГИА-9 </a:t>
            </a:r>
            <a:br>
              <a:rPr sz="2500"/>
            </a:br>
            <a:r>
              <a:rPr b="1" lang="ru-RU" sz="25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 отдельным учебным предметам</a:t>
            </a:r>
            <a:br>
              <a:rPr sz="4000"/>
            </a:br>
            <a:endParaRPr b="1" lang="en-US" sz="25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71640" y="1052640"/>
          <a:ext cx="8172360" cy="5805360"/>
        </p:xfrm>
        <a:graphic>
          <a:graphicData uri="http://schemas.openxmlformats.org/drawingml/2006/table">
            <a:tbl>
              <a:tblPr/>
              <a:tblGrid>
                <a:gridCol w="2162160"/>
                <a:gridCol w="1890720"/>
                <a:gridCol w="4119480"/>
              </a:tblGrid>
              <a:tr h="982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Разрешенные дополнитель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материалы и обору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2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40ae4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120 мину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2 часа 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выполнение письменной части работ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+ 6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на уст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ответ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Общее время на проведение экзаме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не долж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превышать 360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(6 ча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Инструкция по правилам безопасности (для каждой аудитории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- Компью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В аудитории для проведения письменной части экзамена необходимо установить звуковоспроизводящее устройство (компьютер с колонками), обеспечивающее качественное воспроизведение аудиозаписи в формате МР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Объект 5" descr=""/>
          <p:cNvPicPr/>
          <p:nvPr/>
        </p:nvPicPr>
        <p:blipFill>
          <a:blip r:embed="rId1"/>
          <a:stretch/>
        </p:blipFill>
        <p:spPr>
          <a:xfrm>
            <a:off x="109440" y="304920"/>
            <a:ext cx="9034560" cy="5906880"/>
          </a:xfrm>
          <a:prstGeom prst="rect">
            <a:avLst/>
          </a:prstGeom>
          <a:ln w="0">
            <a:noFill/>
          </a:ln>
        </p:spPr>
      </p:pic>
      <p:sp>
        <p:nvSpPr>
          <p:cNvPr id="10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1A8F-9E3C-4BDF-9B39-CB502F0CFD7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ttp://saroblnews.ru/files/pages/51267/1442822779general_pages_i51267_v_oblasti_startuet_osennii_etap_ege.jpg"/>
          <p:cNvPicPr/>
          <p:nvPr/>
        </p:nvPicPr>
        <p:blipFill>
          <a:blip r:embed="rId1"/>
          <a:stretch/>
        </p:blipFill>
        <p:spPr>
          <a:xfrm>
            <a:off x="6588000" y="4941720"/>
            <a:ext cx="2556000" cy="19162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353440" cy="1224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0ae4"/>
                </a:solidFill>
                <a:latin typeface="Calibri"/>
                <a:ea typeface="Times New Roman"/>
              </a:rPr>
              <a:t>Порядок проведения государственной итоговой аттестации по образовательным программам основного общего образования</a:t>
            </a:r>
            <a:endParaRPr b="1" lang="en-US" sz="2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ПЭ выпускник обязан предоставить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пор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бой иметь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рную гелевую ручк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ые устройства и материалы, используемые по отдельным предметам, в соответствии с перечн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059280" y="549360"/>
            <a:ext cx="5689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ПЭ оборудуются стационарными и переносными металлоискателями, средствами видеонаблюд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4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5311-4C4A-4B59-AAD2-D77D1ECB8961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6" descr=""/>
          <p:cNvPicPr/>
          <p:nvPr/>
        </p:nvPicPr>
        <p:blipFill>
          <a:blip r:embed="rId1"/>
          <a:stretch/>
        </p:blipFill>
        <p:spPr>
          <a:xfrm>
            <a:off x="395280" y="2274840"/>
            <a:ext cx="6337440" cy="4156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://www.iprofesional.com/adjuntos/jpg/2011/07/345469.jpg"/>
          <p:cNvPicPr/>
          <p:nvPr/>
        </p:nvPicPr>
        <p:blipFill>
          <a:blip r:embed="rId2"/>
          <a:stretch/>
        </p:blipFill>
        <p:spPr>
          <a:xfrm>
            <a:off x="108000" y="115920"/>
            <a:ext cx="2093760" cy="177948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3" descr=""/>
          <p:cNvPicPr/>
          <p:nvPr/>
        </p:nvPicPr>
        <p:blipFill>
          <a:blip r:embed="rId3"/>
          <a:stretch/>
        </p:blipFill>
        <p:spPr>
          <a:xfrm>
            <a:off x="6084720" y="3716280"/>
            <a:ext cx="2824200" cy="2533680"/>
          </a:xfrm>
          <a:prstGeom prst="rect">
            <a:avLst/>
          </a:prstGeom>
          <a:ln w="0">
            <a:noFill/>
          </a:ln>
        </p:spPr>
      </p:pic>
      <p:sp>
        <p:nvSpPr>
          <p:cNvPr id="195" name="Содержимое 5"/>
          <p:cNvSpPr/>
          <p:nvPr/>
        </p:nvSpPr>
        <p:spPr>
          <a:xfrm>
            <a:off x="6948360" y="1773360"/>
            <a:ext cx="1871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http://www.magobr.ru/Upload/images/%D0%93%D0%98%D0%90%209.jpg"/>
          <p:cNvPicPr/>
          <p:nvPr/>
        </p:nvPicPr>
        <p:blipFill>
          <a:blip r:embed="rId4"/>
          <a:stretch/>
        </p:blipFill>
        <p:spPr>
          <a:xfrm>
            <a:off x="7620120" y="5921280"/>
            <a:ext cx="15238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828180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О ВРЕМЯ ОГЭ ЗАПРЕЩАЮТСЯ:</a:t>
            </a:r>
            <a:endParaRPr b="1" lang="en-US" sz="36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1280" y="1417320"/>
            <a:ext cx="4753080" cy="4708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гово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тавания с мес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сажи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мен любыми материалами и предме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ьзование мобильными телефонами и иными средствами связи, любыми электронно-вычислительными устройств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ьзование справочными материалами кроме тех, которые указаны  Рособрнадзор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ождение по ППЭ во время экзамена без сопровож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Содержимое 8" descr="8V4CFCAL26TQQCA0VO8RWCA51OJTICA1IAFX6CAQKJGVUCA4MW958CAEBGV3LCABZ1GI7CA1117Q7CAAFCEHGCAW51B4ECA2BO4BRCA6P8EZNCACYZVIUCAK3PGK0CA9ZF5DBCAA8LNEKCAKL7022CA8D5CPD.jpg"/>
          <p:cNvPicPr/>
          <p:nvPr/>
        </p:nvPicPr>
        <p:blipFill>
          <a:blip r:embed="rId1"/>
          <a:stretch/>
        </p:blipFill>
        <p:spPr>
          <a:xfrm>
            <a:off x="0" y="1285920"/>
            <a:ext cx="3409920" cy="3182760"/>
          </a:xfrm>
          <a:prstGeom prst="rect">
            <a:avLst/>
          </a:prstGeom>
          <a:ln w="0">
            <a:noFill/>
          </a:ln>
        </p:spPr>
      </p:pic>
      <p:pic>
        <p:nvPicPr>
          <p:cNvPr id="200" name="Содержимое 4" descr="V3COCCADLIWERCA1FR5Z3CA9II0L3CACMRIDPCAYVS3NCCAOTAAUJCAY9DKBVCAWGS72TCA29F06JCA0CJ5ZOCA3V474FCAZNJF0ACA2JRE5QCAI8PQVACAG3EAKYCA11RV4MCA7NBZOVCANUZTHMCA3FU4L3.jpg"/>
          <p:cNvPicPr/>
          <p:nvPr/>
        </p:nvPicPr>
        <p:blipFill>
          <a:blip r:embed="rId2"/>
          <a:stretch/>
        </p:blipFill>
        <p:spPr>
          <a:xfrm>
            <a:off x="1568520" y="4468680"/>
            <a:ext cx="26431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ижний колонтитул 1"/>
          <p:cNvSpPr/>
          <p:nvPr/>
        </p:nvSpPr>
        <p:spPr>
          <a:xfrm>
            <a:off x="4140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омер слайда 2"/>
          <p:cNvSpPr/>
          <p:nvPr/>
        </p:nvSpPr>
        <p:spPr>
          <a:xfrm>
            <a:off x="7380360" y="6245280"/>
            <a:ext cx="13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19CD-60FF-4AD8-B615-67B26BA542F6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http://shkola8kalin.ucoz.ru/gia.jpg"/>
          <p:cNvPicPr/>
          <p:nvPr/>
        </p:nvPicPr>
        <p:blipFill>
          <a:blip r:embed="rId1"/>
          <a:stretch/>
        </p:blipFill>
        <p:spPr>
          <a:xfrm>
            <a:off x="0" y="0"/>
            <a:ext cx="910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УДАЛЕНИЕ С 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При нарушении правил и отказе в их соблюдении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 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организаторы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совместно с уполномоченным представителем ГЭК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праве удалить участника ОГЭ с экзамена с внесением записи в протокол проведения экзамена в аудитории с указанием причины удаления. На бланках и в пропуске проставляется метка о факте удаления с экзамена.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9840" y="189000"/>
            <a:ext cx="8713800" cy="107928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оверка экзаменационных работ участников государственной итоговой аттестации и их оценивание</a:t>
            </a:r>
            <a:endParaRPr b="1" lang="en-US" sz="2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2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экзаменационных работ участников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Э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дет осуществляться экспертами предметных комиссий  централизованно (по    аналогии ЕГЭ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07520" cy="141768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Утверждение, изменение и (или) аннулирование результатов государственной итоговой аттестации</a:t>
            </a:r>
            <a:endParaRPr b="1" lang="en-US" sz="2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42560" y="1125360"/>
            <a:ext cx="8101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государственной итоговой аттестации признаются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удовлетворительным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лучае, если обучающийся по обязательным учебным предметам набрал количество баллов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 ниже минимального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63D8-23ED-43B8-B3C5-8251C2F4D4B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http://86ds7-nyagan.edusite.ru/images/ausrufezeichen2.gif"/>
          <p:cNvPicPr/>
          <p:nvPr/>
        </p:nvPicPr>
        <p:blipFill>
          <a:blip r:embed="rId1"/>
          <a:stretch/>
        </p:blipFill>
        <p:spPr>
          <a:xfrm>
            <a:off x="7956720" y="333360"/>
            <a:ext cx="3808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1763640" y="344520"/>
            <a:ext cx="7129440" cy="1001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331640" y="1600200"/>
            <a:ext cx="374004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нарушении установленного порядка проведения ОГЭ – в день экзамена после сдачи бланков ОГЭ до выхода их ПП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224320" y="1600200"/>
            <a:ext cx="37404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несогласии с выставленными баллами по ОГЭ – в течение двух рабочих дней после официального объявления результатов экзамена и ознакомления с ни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Calibri"/>
              </a:rPr>
              <a:t>Результаты  рассмотрения апелляции</a:t>
            </a:r>
            <a:endParaRPr b="1" lang="en-US" sz="36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результатам рассмотрения апелляции количество выставленных баллов может быть изменено как в сторону 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увеличения, так и в сторону умень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заменационная работа 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перепроверяется полность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не отдельная ее ча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новики, использованные на экзамене, в качестве материалов апелляции 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не рассматрива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663300"/>
                </a:solidFill>
                <a:latin typeface="Calibri"/>
              </a:rPr>
              <a:t>До повторной сдачи ОГЭ в текущем году  не допускаются </a:t>
            </a:r>
            <a:br>
              <a:rPr sz="4000"/>
            </a:b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стники ОГЭ, 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не явившие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 экзамен без уважительной причи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стники ОГЭ, результаты которых были отменены ГЭК, в связи с выявлением фактов 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нарушения участник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ГЭ установленного порядка проведения ОГ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540640" cy="159876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Calibri"/>
                <a:ea typeface="Times New Roman"/>
              </a:rPr>
              <a:t>Формы проведения государственной итоговой аттестации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777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государственный экзамен –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Г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с использованием экзаменационных материалов, представляющих собой комплексы заданий стандартизированной формы (контрольных измерительных материалов -КИМ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20EA-9DC0-47F0-B13B-6933A0A93F7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http://mou-udsosh1.narod.ru/EGE/16-17/ogeh.png"/>
          <p:cNvPicPr/>
          <p:nvPr/>
        </p:nvPicPr>
        <p:blipFill>
          <a:blip r:embed="rId1"/>
          <a:stretch/>
        </p:blipFill>
        <p:spPr>
          <a:xfrm>
            <a:off x="6137280" y="5057640"/>
            <a:ext cx="285732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5920" y="164304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ПЭ не менее 15 участников ОГЭ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аудитории не более 15 участников ОГЭ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15 участников ОГЭ не более 1 общественного наблюдател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ДГОТОВКА К 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Залогом успешной сдачи экзамена является качественное освоение школьной программы, повторение и систематизация изученных тем по предметам, развитие различных умений (читать и анализировать содержание текста, решать задачи и т.п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ДГОТОВКА К 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еред экзаменом необходимо ознакомиться с демонстрационными вариантами КИМ, изучить все содержащиеся в них инструкции, чтобы хорошо понимать, сколько времени отведено на работу, в каком порядке выполнять задания, как записывать отве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ДГОТОВКА К 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Одной из основ подготовки к ОГЭ может стать кодификатор проверяемых элементов содержания: он содержит перечень тем, по которым могут быть сформулированы зад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ДГОТОВКА К 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Любые сборники тренировочных заданий или вариантов могут играть в подготовке только вспомогательную ро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Успешной сдаче ОГЭ помогает и правильный психологический настрой, уверенность в своих си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ДГОТОВКА К О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Всем учащимся, выпускникам 2024 года, доступны экзаменационные задания по ОГЭ для скачивания или для работы онлайн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Публикация открытого банка заданий ОГЭ  на сайте Федерального института педагогических измерений www.fipi.r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В нем представлены все типы экзаменационных заданий по всем предметам ОГЭ. Для удобства работы задания в открытом банке собраны по тематическим разделам — предмет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8096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9360" rIns="99360" tIns="56160" bIns="5616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908000" y="980640"/>
            <a:ext cx="6586560" cy="525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у ОГ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пи открытый банк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ги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ши в ОГ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каны ГИ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писать (русский язы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713800" cy="148608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40ae4"/>
                </a:solidFill>
                <a:latin typeface="Calibri"/>
                <a:ea typeface="Times New Roman"/>
              </a:rPr>
              <a:t>Приказ Министерства просвещения Российской Федерации от 05.10.2020 года №546 «Об утверждении порядка заполнения, учёта и выдачи аттестатов об основном и среднем общем образовании 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и их дубликатов»</a:t>
            </a:r>
            <a:endParaRPr b="1" lang="en-US" sz="16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116000" y="1699920"/>
            <a:ext cx="8028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е отметки за 9 класс по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русскому языку и математике и двум учебным предметам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даваемым по выбору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бучающегося, определяются как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нее арифметическое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довой и экзаменационной отметок выпускника и выставляются в аттестат целыми числами в соответствии с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ми</a:t>
            </a:r>
            <a:r>
              <a:rPr b="1" lang="ru-RU" sz="2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тематического округ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е отметки за 9 класс п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угим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учебным предметам выставляются на основ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довой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тметки выпускника за 9 клас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3D5B-830F-4447-9772-A026FAAD8A4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http://www.magobr.ru/Upload/images/%D0%93%D0%98%D0%90%209.jpg"/>
          <p:cNvPicPr/>
          <p:nvPr/>
        </p:nvPicPr>
        <p:blipFill>
          <a:blip r:embed="rId1"/>
          <a:stretch/>
        </p:blipFill>
        <p:spPr>
          <a:xfrm>
            <a:off x="353880" y="-114480"/>
            <a:ext cx="15242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71280" y="1773360"/>
            <a:ext cx="8172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т об основном общем образовани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отличи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ложение к нему выдаются выпускникам 9 класса, завершившим обучение по образовательным программам основного общего образования, успешно прошедшим государственную итоговую аттестацию и имеющим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тоговые отмет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отлично" по всем учебным предметам учебного плана, изучавшимся на уровне основного общего образ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86AA-D6D9-4720-8A02-EC4F82939B7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http://www.magobr.ru/Upload/images/%D0%93%D0%98%D0%90%209.jpg"/>
          <p:cNvPicPr/>
          <p:nvPr/>
        </p:nvPicPr>
        <p:blipFill>
          <a:blip r:embed="rId1"/>
          <a:stretch/>
        </p:blipFill>
        <p:spPr>
          <a:xfrm>
            <a:off x="0" y="115920"/>
            <a:ext cx="15238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6497640" y="4653000"/>
            <a:ext cx="2646360" cy="2205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Calibri"/>
                <a:ea typeface="Times New Roman"/>
              </a:rPr>
              <a:t>Психологические рекомендации </a:t>
            </a:r>
            <a:br>
              <a:rPr sz="3200"/>
            </a:br>
            <a:r>
              <a:rPr b="1" lang="ru-RU" sz="3200" spc="-1" strike="noStrike">
                <a:solidFill>
                  <a:srgbClr val="240ae4"/>
                </a:solidFill>
                <a:latin typeface="Calibri"/>
                <a:ea typeface="Times New Roman"/>
              </a:rPr>
              <a:t>родителям выпускников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ация 1.  «Душевный поко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выражать уверенность в его силах, не пугайте прова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регулировать свое волнение и не переносить его на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айте своему ребенку готовность помочь и помогайте в различных вопросах подготов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ГИА – 9 в 2025 году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2025 году количество сдаваемых экзаменов четы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Calibri"/>
                <a:ea typeface="Times New Roman"/>
              </a:rPr>
              <a:t>Психологические рекомендации </a:t>
            </a:r>
            <a:br>
              <a:rPr sz="3200"/>
            </a:br>
            <a:r>
              <a:rPr b="1" lang="ru-RU" sz="3200" spc="-1" strike="noStrike">
                <a:solidFill>
                  <a:srgbClr val="240ae4"/>
                </a:solidFill>
                <a:latin typeface="Calibri"/>
                <a:ea typeface="Times New Roman"/>
              </a:rPr>
              <a:t>родителям выпускников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332000" y="1773000"/>
            <a:ext cx="662472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ация 2.  «Физическое здоровь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гнетайте атмосферу накануне экзаме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йте уверенность у ребё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йте за его самочувств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режим подготовки ребёнка, не допускайте перегрузок. Организуйте прогулки на свежем воздух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е внимание на питание ребёнка. Такие продукты, как рыба, творог, орехи, курага т.д. стимулируют работу головного мозг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280" y="43920"/>
            <a:ext cx="6409080" cy="729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проведения ГИА-9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grpSp>
        <p:nvGrpSpPr>
          <p:cNvPr id="111" name="Группа 17"/>
          <p:cNvGrpSpPr/>
          <p:nvPr/>
        </p:nvGrpSpPr>
        <p:grpSpPr>
          <a:xfrm>
            <a:off x="1547640" y="907920"/>
            <a:ext cx="7201080" cy="5616720"/>
            <a:chOff x="1547640" y="907920"/>
            <a:chExt cx="7201080" cy="5616720"/>
          </a:xfrm>
        </p:grpSpPr>
        <p:sp>
          <p:nvSpPr>
            <p:cNvPr id="112" name="Прямоугольник 3"/>
            <p:cNvSpPr/>
            <p:nvPr/>
          </p:nvSpPr>
          <p:spPr>
            <a:xfrm>
              <a:off x="2705040" y="907920"/>
              <a:ext cx="4235400" cy="4572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Cambria"/>
                </a:rPr>
                <a:t>2024/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Стрелка вниз 4"/>
            <p:cNvGrpSpPr/>
            <p:nvPr/>
          </p:nvGrpSpPr>
          <p:grpSpPr>
            <a:xfrm>
              <a:off x="3236760" y="1492560"/>
              <a:ext cx="1530000" cy="457200"/>
              <a:chOff x="3236760" y="1492560"/>
              <a:chExt cx="1530000" cy="457200"/>
            </a:xfrm>
          </p:grpSpPr>
          <p:pic>
            <p:nvPicPr>
              <p:cNvPr id="114" name="Стрелка вниз 4" descr=""/>
              <p:cNvPicPr/>
              <p:nvPr/>
            </p:nvPicPr>
            <p:blipFill>
              <a:blip r:embed="rId1"/>
              <a:stretch/>
            </p:blipFill>
            <p:spPr>
              <a:xfrm>
                <a:off x="3236760" y="1492560"/>
                <a:ext cx="15300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3646800" y="1520640"/>
                <a:ext cx="7081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Стрелка вниз 6"/>
            <p:cNvGrpSpPr/>
            <p:nvPr/>
          </p:nvGrpSpPr>
          <p:grpSpPr>
            <a:xfrm>
              <a:off x="4767120" y="1492560"/>
              <a:ext cx="1621440" cy="463320"/>
              <a:chOff x="4767120" y="1492560"/>
              <a:chExt cx="1621440" cy="463320"/>
            </a:xfrm>
          </p:grpSpPr>
          <p:pic>
            <p:nvPicPr>
              <p:cNvPr id="117" name="Стрелка вниз 6" descr=""/>
              <p:cNvPicPr/>
              <p:nvPr/>
            </p:nvPicPr>
            <p:blipFill>
              <a:blip r:embed="rId2"/>
              <a:stretch/>
            </p:blipFill>
            <p:spPr>
              <a:xfrm>
                <a:off x="4767120" y="1492560"/>
                <a:ext cx="162144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5200920" y="1524600"/>
                <a:ext cx="7567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Прямоугольник 7"/>
            <p:cNvSpPr/>
            <p:nvPr/>
          </p:nvSpPr>
          <p:spPr>
            <a:xfrm>
              <a:off x="2705040" y="1971720"/>
              <a:ext cx="4235400" cy="37332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Cambria"/>
                </a:rPr>
                <a:t>Обязательные предметы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Прямоугольник 8"/>
            <p:cNvSpPr/>
            <p:nvPr/>
          </p:nvSpPr>
          <p:spPr>
            <a:xfrm>
              <a:off x="1763640" y="3549960"/>
              <a:ext cx="6913080" cy="147528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Cambria"/>
                </a:rPr>
                <a:t>2 предмета по выбору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99"/>
                  </a:solidFill>
                  <a:latin typeface="Cambria"/>
                </a:rPr>
                <a:t>(физика, химия, биология, история, география, информатика и ИКТ, иностранные языки, обществознание, литература</a:t>
              </a:r>
              <a:r>
                <a:rPr b="0" lang="ru-RU" sz="1300" spc="-1" strike="noStrike">
                  <a:solidFill>
                    <a:srgbClr val="333399"/>
                  </a:solidFill>
                  <a:latin typeface="Cambria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оугольник 9"/>
            <p:cNvSpPr/>
            <p:nvPr/>
          </p:nvSpPr>
          <p:spPr>
            <a:xfrm>
              <a:off x="3292200" y="2670840"/>
              <a:ext cx="3592440" cy="38700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e4649"/>
                  </a:solidFill>
                  <a:latin typeface="Cambria"/>
                </a:rPr>
                <a:t>русский язы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оугольник 10"/>
            <p:cNvSpPr/>
            <p:nvPr/>
          </p:nvSpPr>
          <p:spPr>
            <a:xfrm>
              <a:off x="3362040" y="3137040"/>
              <a:ext cx="3591000" cy="38700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e4649"/>
                  </a:solidFill>
                  <a:latin typeface="Cambria"/>
                </a:rPr>
                <a:t>математи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Прямоугольник 12"/>
            <p:cNvSpPr/>
            <p:nvPr/>
          </p:nvSpPr>
          <p:spPr>
            <a:xfrm flipV="1">
              <a:off x="2111040" y="4952880"/>
              <a:ext cx="2230200" cy="7164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Прямоугольник 16"/>
            <p:cNvSpPr/>
            <p:nvPr/>
          </p:nvSpPr>
          <p:spPr>
            <a:xfrm>
              <a:off x="1547640" y="5025600"/>
              <a:ext cx="7201080" cy="149904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Аттестат = успешные результаты ГИА по четырем  учебным предмет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8846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78508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проведения ГИА-9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4449600" y="1268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6"/>
          <p:cNvSpPr/>
          <p:nvPr/>
        </p:nvSpPr>
        <p:spPr>
          <a:xfrm>
            <a:off x="395280" y="1417680"/>
            <a:ext cx="4032360" cy="244296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3192"/>
                </a:solidFill>
                <a:latin typeface="Cambria"/>
              </a:rPr>
              <a:t>При проведении ГИА-9  по учебному предмету в состав организаторов и ассистентов </a:t>
            </a:r>
            <a:r>
              <a:rPr b="1" lang="ru-RU" sz="2400" spc="-1" strike="noStrike">
                <a:solidFill>
                  <a:srgbClr val="2e3192"/>
                </a:solidFill>
                <a:latin typeface="Cambria"/>
              </a:rPr>
              <a:t>не входят </a:t>
            </a:r>
            <a:r>
              <a:rPr b="0" lang="ru-RU" sz="2400" spc="-1" strike="noStrike">
                <a:solidFill>
                  <a:srgbClr val="2e3192"/>
                </a:solidFill>
                <a:latin typeface="Cambria"/>
              </a:rPr>
              <a:t>специалисты по этому учебному предм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"/>
          <p:cNvSpPr/>
          <p:nvPr/>
        </p:nvSpPr>
        <p:spPr>
          <a:xfrm>
            <a:off x="2556000" y="4265640"/>
            <a:ext cx="4032000" cy="182736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3192"/>
                </a:solidFill>
                <a:latin typeface="Cambria"/>
              </a:rPr>
              <a:t>ГВЭ для всех категорий ОВЗ </a:t>
            </a:r>
            <a:r>
              <a:rPr b="1" lang="ru-RU" sz="2400" spc="-1" strike="noStrike">
                <a:solidFill>
                  <a:srgbClr val="2e3192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2e3192"/>
                </a:solidFill>
                <a:latin typeface="Cambria"/>
              </a:rPr>
              <a:t>по желанию 2 или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4721400" y="1417680"/>
            <a:ext cx="4078080" cy="244296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3192"/>
                </a:solidFill>
                <a:latin typeface="Cambria"/>
              </a:rPr>
              <a:t>Определение </a:t>
            </a:r>
            <a:r>
              <a:rPr b="1" lang="ru-RU" sz="2400" spc="-1" strike="noStrike">
                <a:solidFill>
                  <a:srgbClr val="2e3192"/>
                </a:solidFill>
                <a:latin typeface="Cambria"/>
              </a:rPr>
              <a:t>места для личных вещей участников ГИА до входа в ПП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3192"/>
                </a:solidFill>
                <a:latin typeface="Cambria"/>
              </a:rPr>
              <a:t>Определение понятий «территория ППЭ», «вход в ППЭ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8636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40ae4"/>
                </a:solidFill>
                <a:latin typeface="Calibri"/>
              </a:rPr>
              <a:t>Г И А в  2025 году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1197000"/>
            <a:ext cx="81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кзамены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бо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 определяе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стояте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явл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боре экзаменов и их количестве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писанное учеником или родителя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онными представителями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ёт  выпускник с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позднее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 марта 2025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да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03280" y="264960"/>
            <a:ext cx="6826320" cy="116172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9360" rIns="99360" tIns="56160" bIns="56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240ae4"/>
              </a:solidFill>
              <a:latin typeface="Calibri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03280" y="549000"/>
            <a:ext cx="77407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haron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haroni"/>
              </a:rPr>
              <a:t>К ГИА допускаются обучающиеся, имеющие годовые отметк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Aharoni"/>
              </a:rPr>
              <a:t>по всем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haroni"/>
              </a:rPr>
              <a:t>учебным предметам учебного плана з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haroni"/>
              </a:rPr>
              <a:t> класс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Aharoni"/>
              </a:rPr>
              <a:t>не ниже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Aharoni"/>
              </a:rPr>
              <a:t>удовлетворите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3598920" y="2878200"/>
            <a:ext cx="2751120" cy="336384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1:57:29Z</dcterms:created>
  <dc:creator>Завуч</dc:creator>
  <dc:description/>
  <dc:language>en-US</dc:language>
  <cp:lastModifiedBy>Роженюк Наталья Владимировна</cp:lastModifiedBy>
  <dcterms:modified xsi:type="dcterms:W3CDTF">2024-11-06T09:39:42Z</dcterms:modified>
  <cp:revision>107</cp:revision>
  <dc:subject/>
  <dc:title>Слайд 1</dc:title>
</cp:coreProperties>
</file>